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gif" ContentType="image/gif"/>
  <Override PartName="/ppt/media/image25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gif" ContentType="image/gif"/>
  <Override PartName="/ppt/media/image65.png" ContentType="image/png"/>
  <Override PartName="/ppt/media/image27.png" ContentType="image/png"/>
  <Override PartName="/ppt/media/image33.jpeg" ContentType="image/jpe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66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16A-0046-45CC-A5EC-DC118088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F61-DA05-4B33-B0F8-19499533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F12-A03B-43FA-9FCF-F84B036A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340-038B-49E8-86AA-2CCB28AE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A35A-B583-4557-9D6B-C5EF7764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2BEE-DFB7-491F-8A63-8D6ADB6C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56D3-54F4-4C2F-A78C-556735F2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D0CE-834D-4396-AA46-0377B747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9BFE-D73E-4AC8-AD6D-E66BCE6B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5399-4B89-4C32-9166-07E7D302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3D1B-7F67-481E-8448-C27086F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B90-E749-41BE-9B78-90ADF88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CCB4-CCE1-4AE9-9A59-14267E32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2A4E-AB67-409D-9FC3-F005B0A6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0D8F-1F06-4BCF-B6D4-46C30CC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CDB4-D5F3-4CFA-BD05-4147ADDC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AEB3-4078-4731-95D2-274E4334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89D1-7A48-4E40-8166-9B2ABDDB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B694-C04C-4CA1-A477-D4C1744A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4F4B-13FD-4BD1-A787-0891EF7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1B68-2999-45F1-AE94-350F5487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0CC6-CCBC-4592-BE4E-DEA3C54B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A2E-2771-4FEE-B650-8025E3D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DDD9-CEBA-40E3-AF6F-58F7F808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7A16-E4B3-4CDC-850F-2DA93C3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0EF0-3715-45BB-94A6-34D27539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0E24-4B91-468B-9012-83C0B77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4F8B-267F-4612-8999-D01EDDF0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4DED-3FF6-49C5-8C15-27878C46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CF93-7286-481D-98BE-9DED2834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8DA6-EA18-4BB1-81F6-40DB4CCC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4CE3-1605-4298-907D-8B1ECE7B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9B99-A028-4F34-A8C4-B49115E7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EB3-F307-4557-A6B1-F0A51D03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F9BA-E2DB-498A-9172-51E51CAF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CE354-159F-4F6C-9BBE-3710540A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CA46-D231-4927-8A66-C47B9EF3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EC06-624A-454D-9F32-019B0865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3C18-B39C-4D8D-A72D-C08BF95D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A70F-FF21-4EEE-8643-253D5A7F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90DD3-304B-4967-AD1D-3876363E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700A-4443-4B32-B7B4-79F58A73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1723-9F7C-483D-B617-B7651429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9FA-6D2B-4678-81FA-B40F33A5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B18-D411-43F6-8B0B-31953A12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AD3-63A0-4194-9A9C-C302DA2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8F6-E2B1-405C-BCBA-2C815EB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EEC-C2A5-4149-9E74-506CE77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543D-F810-4C13-A90E-CB80F3DB7F38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F719-D6FE-4BC0-B05F-C08D67C6B59C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3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3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4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4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5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3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64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65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7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68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71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74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77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9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80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2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83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5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86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13AC-41FB-4050-818C-EFDBB84871B2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257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258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261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264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6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267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9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270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273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5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276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279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0BAC-F238-4AB6-ABD4-2D119D11DEC4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676080"/>
            <a:ext cx="7416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3" name="Рисунок 6" descr="Это Я - сентябрь 2012.JPG"/>
          <p:cNvPicPr/>
          <p:nvPr/>
        </p:nvPicPr>
        <p:blipFill>
          <a:blip r:embed="rId2"/>
          <a:stretch/>
        </p:blipFill>
        <p:spPr>
          <a:xfrm>
            <a:off x="642960" y="3000240"/>
            <a:ext cx="1731960" cy="25974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2643120" y="3143160"/>
            <a:ext cx="6215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дежда Валенти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Учитель химии ГБОУ СОШ № 422 Кронштадтского рай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286080" y="578340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95480" y="2146320"/>
            <a:ext cx="3432240" cy="2425680"/>
          </a:xfrm>
          <a:prstGeom prst="rect">
            <a:avLst/>
          </a:prstGeom>
          <a:ln w="0">
            <a:noFill/>
          </a:ln>
        </p:spPr>
      </p:pic>
      <p:grpSp>
        <p:nvGrpSpPr>
          <p:cNvPr id="447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448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0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451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3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454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6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457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9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460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2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463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465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6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7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8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9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70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71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extBox 3" descr=""/>
          <p:cNvPicPr/>
          <p:nvPr/>
        </p:nvPicPr>
        <p:blipFill>
          <a:blip r:embed="rId1"/>
          <a:stretch/>
        </p:blipFill>
        <p:spPr>
          <a:xfrm>
            <a:off x="212760" y="8568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0" y="1868400"/>
            <a:ext cx="914400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(OH)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)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Box 30"/>
          <p:cNvSpPr/>
          <p:nvPr/>
        </p:nvSpPr>
        <p:spPr>
          <a:xfrm>
            <a:off x="1928880" y="5929200"/>
            <a:ext cx="20001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Box 36"/>
          <p:cNvSpPr/>
          <p:nvPr/>
        </p:nvSpPr>
        <p:spPr>
          <a:xfrm>
            <a:off x="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TextBox 18" descr=""/>
          <p:cNvPicPr/>
          <p:nvPr/>
        </p:nvPicPr>
        <p:blipFill>
          <a:blip r:embed="rId2"/>
          <a:stretch/>
        </p:blipFill>
        <p:spPr>
          <a:xfrm>
            <a:off x="4846680" y="5705640"/>
            <a:ext cx="230328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extBox 3" descr=""/>
          <p:cNvPicPr/>
          <p:nvPr/>
        </p:nvPicPr>
        <p:blipFill>
          <a:blip r:embed="rId1"/>
          <a:stretch/>
        </p:blipFill>
        <p:spPr>
          <a:xfrm>
            <a:off x="182520" y="85680"/>
            <a:ext cx="9004320" cy="1523880"/>
          </a:xfrm>
          <a:prstGeom prst="rect">
            <a:avLst/>
          </a:prstGeom>
          <a:ln w="0">
            <a:noFill/>
          </a:ln>
        </p:spPr>
      </p:pic>
      <p:sp>
        <p:nvSpPr>
          <p:cNvPr id="492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285840" y="1714680"/>
            <a:ext cx="85723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36"/>
          <p:cNvSpPr/>
          <p:nvPr/>
        </p:nvSpPr>
        <p:spPr>
          <a:xfrm>
            <a:off x="21420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4" name="TextBox 18" descr=""/>
          <p:cNvPicPr/>
          <p:nvPr/>
        </p:nvPicPr>
        <p:blipFill>
          <a:blip r:embed="rId2"/>
          <a:stretch/>
        </p:blipFill>
        <p:spPr>
          <a:xfrm>
            <a:off x="4632480" y="5705640"/>
            <a:ext cx="230472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юбовь  как  притяжение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06" name="Рисунок 8" descr="5 видов любви. Классификация психологов "/>
          <p:cNvPicPr/>
          <p:nvPr/>
        </p:nvPicPr>
        <p:blipFill>
          <a:blip r:embed="rId2"/>
          <a:stretch/>
        </p:blipFill>
        <p:spPr>
          <a:xfrm>
            <a:off x="1952640" y="2381400"/>
            <a:ext cx="523872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9" descr="http://www.sev-chem.narod.ru/Different/love.files/image002.gif"/>
          <p:cNvPicPr/>
          <p:nvPr/>
        </p:nvPicPr>
        <p:blipFill>
          <a:blip r:embed="rId1"/>
          <a:stretch/>
        </p:blipFill>
        <p:spPr>
          <a:xfrm>
            <a:off x="209520" y="2500200"/>
            <a:ext cx="2290680" cy="10000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0"/>
          <p:cNvSpPr/>
          <p:nvPr/>
        </p:nvSpPr>
        <p:spPr>
          <a:xfrm>
            <a:off x="2714760" y="250020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-фенилэтиламин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- «Вещество любви» синтезируется в организ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начальном периоде возникновения чувства люб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357120" y="364320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Эндорфи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- «гормоны радости». По мнению некоторых ученых, за развитие последующей влюбленности ответственны эндорфины, т.е. э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«молекулы долговременных любовных отношений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2714760" y="201600"/>
            <a:ext cx="3714480" cy="58140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щества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16"/>
          <p:cNvSpPr/>
          <p:nvPr/>
        </p:nvSpPr>
        <p:spPr>
          <a:xfrm>
            <a:off x="214200" y="110016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фетам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2000160" y="181440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ером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18"/>
          <p:cNvSpPr/>
          <p:nvPr/>
        </p:nvSpPr>
        <p:spPr>
          <a:xfrm>
            <a:off x="5643720" y="181440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фродизиа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19"/>
          <p:cNvSpPr/>
          <p:nvPr/>
        </p:nvSpPr>
        <p:spPr>
          <a:xfrm>
            <a:off x="3571920" y="107172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ндорф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6643800" y="107172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ситоц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2"/>
          <p:cNvSpPr/>
          <p:nvPr/>
        </p:nvSpPr>
        <p:spPr>
          <a:xfrm>
            <a:off x="357120" y="5149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кситоци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интезируется в гипоталамусе. Существует гипотеза, что окситоцин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ызывает чувство вер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4" descr="муж и жен начало 3.jpeg"/>
          <p:cNvPicPr/>
          <p:nvPr/>
        </p:nvPicPr>
        <p:blipFill>
          <a:blip r:embed="rId2"/>
          <a:stretch/>
        </p:blipFill>
        <p:spPr>
          <a:xfrm>
            <a:off x="2214720" y="800280"/>
            <a:ext cx="4635360" cy="22716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6572160" y="2714760"/>
            <a:ext cx="25718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6858000" y="2954160"/>
            <a:ext cx="242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анг – ила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мар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ргам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типгрей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см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льма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28760" y="3000240"/>
            <a:ext cx="221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ед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ачу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анд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р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ус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мбир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етив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3500280" y="36687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йпфру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ван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йное дере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и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ал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428760" y="1546200"/>
            <a:ext cx="14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7215120" y="15462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2071800" y="3048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 и 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500040" y="13032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фродизиаки – ароматы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857160" y="62866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озиция люб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8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9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187280" y="2858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11" descr="Жёлтая шляпа"/>
          <p:cNvPicPr/>
          <p:nvPr/>
        </p:nvPicPr>
        <p:blipFill>
          <a:blip r:embed="rId2"/>
          <a:stretch/>
        </p:blipFill>
        <p:spPr>
          <a:xfrm>
            <a:off x="1071720" y="41878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5075280" y="3860640"/>
            <a:ext cx="3639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Arial"/>
              </a:rPr>
              <a:t>Жёлтая шляпа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олнечный, жизнеутверждающий цвет. Она полна оптимизма, под ней живёт надежда и позитивное мыш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Conjure_Moon.mp3" descr=""/>
          <p:cNvPicPr/>
          <p:nvPr/>
        </p:nvPicPr>
        <p:blipFill>
          <a:blip r:embed="rId3"/>
          <a:stretch/>
        </p:blipFill>
        <p:spPr>
          <a:xfrm>
            <a:off x="21420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Красная шляпа"/>
          <p:cNvPicPr/>
          <p:nvPr/>
        </p:nvPicPr>
        <p:blipFill>
          <a:blip r:embed="rId4"/>
          <a:stretch/>
        </p:blipFill>
        <p:spPr>
          <a:xfrm>
            <a:off x="5167440" y="17146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7"/>
          <p:cNvSpPr/>
          <p:nvPr/>
        </p:nvSpPr>
        <p:spPr>
          <a:xfrm>
            <a:off x="857160" y="178596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0b05"/>
                </a:solidFill>
                <a:latin typeface="Verdana"/>
                <a:ea typeface="Arial"/>
              </a:rPr>
              <a:t>Красная шляпа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восприятия действительности на уровне чувств. В ней можно отдать себя во власть эмо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6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222200" y="2779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187280" y="857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2876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ёрная шляп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чёрный цвет мрачный, зловещий, словом – недобрый. Это критика, доходящая до въедлив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8" descr="Чёрная шляпа"/>
          <p:cNvPicPr/>
          <p:nvPr/>
        </p:nvPicPr>
        <p:blipFill>
          <a:blip r:embed="rId2"/>
          <a:stretch/>
        </p:blipFill>
        <p:spPr>
          <a:xfrm>
            <a:off x="4809960" y="1714680"/>
            <a:ext cx="3119760" cy="1884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Зелёная шляпа"/>
          <p:cNvPicPr/>
          <p:nvPr/>
        </p:nvPicPr>
        <p:blipFill>
          <a:blip r:embed="rId3"/>
          <a:stretch/>
        </p:blipFill>
        <p:spPr>
          <a:xfrm>
            <a:off x="785880" y="4143240"/>
            <a:ext cx="3119400" cy="18860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9"/>
          <p:cNvSpPr/>
          <p:nvPr/>
        </p:nvSpPr>
        <p:spPr>
          <a:xfrm>
            <a:off x="4714920" y="407196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  <a:ea typeface="Arial"/>
              </a:rPr>
              <a:t>Зелёная шляпа</a:t>
            </a:r>
            <a:r>
              <a:rPr b="1" lang="ru-RU" sz="1800" spc="-1" strike="noStrike">
                <a:solidFill>
                  <a:srgbClr val="006600"/>
                </a:solidFill>
                <a:latin typeface="Verdana"/>
                <a:ea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свежей листвы, изобилия и плодородия. Она символизирует творческое начало и рассвет новых ид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65" nodeType="afterEffect" fill="hold" presetClass="entr" presetID="3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187280" y="3571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973760" y="425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Белая шляпа</a:t>
            </a:r>
            <a:r>
              <a:rPr b="1" lang="ru-RU" sz="18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e1e1e1"/>
                </a:solidFill>
                <a:latin typeface="Verdana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белый цвет беспристрастен и объективен. В ней «варятся» мысли, «замешанные» на цифрах и фак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1" descr="Белая шляпа"/>
          <p:cNvPicPr/>
          <p:nvPr/>
        </p:nvPicPr>
        <p:blipFill>
          <a:blip r:embed="rId1"/>
          <a:stretch/>
        </p:blipFill>
        <p:spPr>
          <a:xfrm>
            <a:off x="785880" y="4429080"/>
            <a:ext cx="3119400" cy="188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Синяя шляпа"/>
          <p:cNvPicPr/>
          <p:nvPr/>
        </p:nvPicPr>
        <p:blipFill>
          <a:blip r:embed="rId2"/>
          <a:stretch/>
        </p:blipFill>
        <p:spPr>
          <a:xfrm>
            <a:off x="5238720" y="1500120"/>
            <a:ext cx="3119400" cy="1884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57168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  <a:ea typeface="Arial"/>
              </a:rPr>
              <a:t>Синяя шляпа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ний цвет холодный, это цвет неба. Она связана с организацией, обобщением того, что достигнут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2" descr=""/>
          <p:cNvPicPr/>
          <p:nvPr/>
        </p:nvPicPr>
        <p:blipFill>
          <a:blip r:embed="rId2"/>
          <a:stretch/>
        </p:blipFill>
        <p:spPr>
          <a:xfrm>
            <a:off x="781200" y="5924520"/>
            <a:ext cx="758160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9800" y="676080"/>
            <a:ext cx="7124400" cy="23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, 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юбовь  к  химии.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571680" y="40006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 как    хим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алит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ритя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Рисунок 18" descr="khimicheskij_opyt_jpg.gif"/>
          <p:cNvPicPr/>
          <p:nvPr/>
        </p:nvPicPr>
        <p:blipFill>
          <a:blip r:embed="rId2"/>
          <a:stretch/>
        </p:blipFill>
        <p:spPr>
          <a:xfrm>
            <a:off x="4233960" y="3571920"/>
            <a:ext cx="2124000" cy="15429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1" descr="Аромат 5.jpeg"/>
          <p:cNvPicPr/>
          <p:nvPr/>
        </p:nvPicPr>
        <p:blipFill>
          <a:blip r:embed="rId3"/>
          <a:stretch/>
        </p:blipFill>
        <p:spPr>
          <a:xfrm>
            <a:off x="4714920" y="5411880"/>
            <a:ext cx="1857240" cy="1160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2" descr="Аромат 7.jpeg"/>
          <p:cNvPicPr/>
          <p:nvPr/>
        </p:nvPicPr>
        <p:blipFill>
          <a:blip r:embed="rId4"/>
          <a:stretch/>
        </p:blipFill>
        <p:spPr>
          <a:xfrm>
            <a:off x="7215120" y="5394240"/>
            <a:ext cx="1681200" cy="1177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23" descr="Палитра надо.jpeg"/>
          <p:cNvPicPr/>
          <p:nvPr/>
        </p:nvPicPr>
        <p:blipFill>
          <a:blip r:embed="rId5"/>
          <a:stretch/>
        </p:blipFill>
        <p:spPr>
          <a:xfrm>
            <a:off x="6572160" y="385776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5"/>
          <p:cNvSpPr/>
          <p:nvPr/>
        </p:nvSpPr>
        <p:spPr>
          <a:xfrm>
            <a:off x="142920" y="31813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 Взглянуть на предмет другими глаза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1071720" y="3000240"/>
            <a:ext cx="6643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влюблен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 +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NaCl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3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Стрелка вправо 12"/>
          <p:cNvSpPr/>
          <p:nvPr/>
        </p:nvSpPr>
        <p:spPr>
          <a:xfrm>
            <a:off x="4214880" y="5000760"/>
            <a:ext cx="2071800" cy="28548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Цилиндр 13"/>
          <p:cNvSpPr/>
          <p:nvPr/>
        </p:nvSpPr>
        <p:spPr>
          <a:xfrm>
            <a:off x="2857680" y="4357800"/>
            <a:ext cx="571320" cy="135720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Цилиндр 14"/>
          <p:cNvSpPr/>
          <p:nvPr/>
        </p:nvSpPr>
        <p:spPr>
          <a:xfrm>
            <a:off x="2857680" y="5572080"/>
            <a:ext cx="571320" cy="1071720"/>
          </a:xfrm>
          <a:prstGeom prst="can">
            <a:avLst>
              <a:gd name="adj" fmla="val 13333"/>
            </a:avLst>
          </a:prstGeom>
          <a:solidFill>
            <a:srgbClr val="b0105c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0" y="5929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0" y="33447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фенолфтале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Стрелка вправо 19"/>
          <p:cNvSpPr/>
          <p:nvPr/>
        </p:nvSpPr>
        <p:spPr>
          <a:xfrm>
            <a:off x="1785960" y="5000760"/>
            <a:ext cx="938160" cy="2854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Стрелка углом вверх 20"/>
          <p:cNvSpPr/>
          <p:nvPr/>
        </p:nvSpPr>
        <p:spPr>
          <a:xfrm rot="10800000">
            <a:off x="7715160" y="392904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428625"/>
                </a:moveTo>
                <a:lnTo>
                  <a:pt x="785813" y="428625"/>
                </a:lnTo>
                <a:lnTo>
                  <a:pt x="785813" y="142875"/>
                </a:lnTo>
                <a:lnTo>
                  <a:pt x="714375" y="142875"/>
                </a:lnTo>
                <a:lnTo>
                  <a:pt x="857250" y="0"/>
                </a:lnTo>
                <a:lnTo>
                  <a:pt x="1000125" y="142875"/>
                </a:lnTo>
                <a:lnTo>
                  <a:pt x="928688" y="142875"/>
                </a:lnTo>
                <a:lnTo>
                  <a:pt x="928688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Box 21"/>
          <p:cNvSpPr/>
          <p:nvPr/>
        </p:nvSpPr>
        <p:spPr>
          <a:xfrm>
            <a:off x="8001000" y="33336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HC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страстн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g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Схема 6" descr=""/>
          <p:cNvPicPr/>
          <p:nvPr/>
        </p:nvPicPr>
        <p:blipFill>
          <a:blip r:embed="rId2"/>
          <a:stretch/>
        </p:blipFill>
        <p:spPr>
          <a:xfrm>
            <a:off x="360360" y="755640"/>
            <a:ext cx="8570880" cy="2487600"/>
          </a:xfrm>
          <a:prstGeom prst="rect">
            <a:avLst/>
          </a:prstGeom>
          <a:ln w="0">
            <a:noFill/>
          </a:ln>
        </p:spPr>
      </p:pic>
      <p:sp>
        <p:nvSpPr>
          <p:cNvPr id="352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зрел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Zn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Zn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6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89360" y="2139840"/>
            <a:ext cx="3444840" cy="243864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379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382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385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388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0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391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394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96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7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8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9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0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1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02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9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0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1859040"/>
            <a:ext cx="7426080" cy="190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857160" y="28584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Эро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хийная, восторженная 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Цилиндр 7"/>
          <p:cNvSpPr/>
          <p:nvPr/>
        </p:nvSpPr>
        <p:spPr>
          <a:xfrm>
            <a:off x="7429680" y="5143680"/>
            <a:ext cx="571320" cy="1428480"/>
          </a:xfrm>
          <a:prstGeom prst="can">
            <a:avLst>
              <a:gd name="adj" fmla="val 10000"/>
            </a:avLst>
          </a:prstGeom>
          <a:solidFill>
            <a:srgbClr val="ff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Цилиндр 20"/>
          <p:cNvSpPr/>
          <p:nvPr/>
        </p:nvSpPr>
        <p:spPr>
          <a:xfrm>
            <a:off x="7429680" y="3857760"/>
            <a:ext cx="57132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Цилиндр 27"/>
          <p:cNvSpPr/>
          <p:nvPr/>
        </p:nvSpPr>
        <p:spPr>
          <a:xfrm>
            <a:off x="135720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Цилиндр 29"/>
          <p:cNvSpPr/>
          <p:nvPr/>
        </p:nvSpPr>
        <p:spPr>
          <a:xfrm>
            <a:off x="135720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c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2143080" y="5715000"/>
            <a:ext cx="150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0" y="3071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KSC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Стрелка углом 36"/>
          <p:cNvSpPr/>
          <p:nvPr/>
        </p:nvSpPr>
        <p:spPr>
          <a:xfrm rot="5400000">
            <a:off x="1071360" y="3571920"/>
            <a:ext cx="571320" cy="857160"/>
          </a:xfrm>
          <a:custGeom>
            <a:avLst/>
            <a:gdLst/>
            <a:ahLst/>
            <a:rect l="l" t="t" r="r" b="b"/>
            <a:pathLst>
              <a:path w="571500" h="857250">
                <a:moveTo>
                  <a:pt x="0" y="85725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Стрелка вправо 37"/>
          <p:cNvSpPr/>
          <p:nvPr/>
        </p:nvSpPr>
        <p:spPr>
          <a:xfrm>
            <a:off x="3714840" y="5000760"/>
            <a:ext cx="2071440" cy="28548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TextBox 39" descr=""/>
          <p:cNvPicPr/>
          <p:nvPr/>
        </p:nvPicPr>
        <p:blipFill>
          <a:blip r:embed="rId2"/>
          <a:stretch/>
        </p:blipFill>
        <p:spPr>
          <a:xfrm>
            <a:off x="4846680" y="5419800"/>
            <a:ext cx="2511360" cy="85860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40" descr=""/>
          <p:cNvPicPr/>
          <p:nvPr/>
        </p:nvPicPr>
        <p:blipFill>
          <a:blip r:embed="rId3"/>
          <a:stretch/>
        </p:blipFill>
        <p:spPr>
          <a:xfrm>
            <a:off x="6119640" y="5950080"/>
            <a:ext cx="145116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857160" y="21420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Сторгэ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юбовь  как  неж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a7d6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214200" y="1643040"/>
            <a:ext cx="89298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2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Box 30"/>
          <p:cNvSpPr/>
          <p:nvPr/>
        </p:nvSpPr>
        <p:spPr>
          <a:xfrm>
            <a:off x="1928880" y="585792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TextBox 31" descr=""/>
          <p:cNvPicPr/>
          <p:nvPr/>
        </p:nvPicPr>
        <p:blipFill>
          <a:blip r:embed="rId1"/>
          <a:stretch/>
        </p:blipFill>
        <p:spPr>
          <a:xfrm>
            <a:off x="4700520" y="5705640"/>
            <a:ext cx="2370240" cy="860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трелка вниз 35"/>
          <p:cNvSpPr/>
          <p:nvPr/>
        </p:nvSpPr>
        <p:spPr>
          <a:xfrm>
            <a:off x="7000920" y="578628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Box 36"/>
          <p:cNvSpPr/>
          <p:nvPr/>
        </p:nvSpPr>
        <p:spPr>
          <a:xfrm>
            <a:off x="21420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858960" y="85680"/>
            <a:ext cx="7284960" cy="1523880"/>
          </a:xfrm>
          <a:prstGeom prst="rect">
            <a:avLst/>
          </a:prstGeom>
          <a:ln w="0">
            <a:noFill/>
          </a:ln>
        </p:spPr>
      </p:pic>
      <p:sp>
        <p:nvSpPr>
          <p:cNvPr id="434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0" y="1643040"/>
            <a:ext cx="9144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3Na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 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TextBox 31" descr=""/>
          <p:cNvPicPr/>
          <p:nvPr/>
        </p:nvPicPr>
        <p:blipFill>
          <a:blip r:embed="rId2"/>
          <a:stretch/>
        </p:blipFill>
        <p:spPr>
          <a:xfrm>
            <a:off x="4986360" y="5778360"/>
            <a:ext cx="2043000" cy="8604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Box 36"/>
          <p:cNvSpPr/>
          <p:nvPr/>
        </p:nvSpPr>
        <p:spPr>
          <a:xfrm>
            <a:off x="0" y="2928960"/>
            <a:ext cx="171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0:26:54Z</dcterms:created>
  <dc:creator>User</dc:creator>
  <dc:description/>
  <dc:language>en-US</dc:language>
  <cp:lastModifiedBy>Школа</cp:lastModifiedBy>
  <dcterms:modified xsi:type="dcterms:W3CDTF">2018-04-30T10:06:59Z</dcterms:modified>
  <cp:revision>65</cp:revision>
  <dc:subject/>
  <dc:title>Презентация PowerPoint</dc:title>
</cp:coreProperties>
</file>